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8FD-F08C-4FD4-9A4F-E28AF5FC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3F0-CBB0-4479-B0B8-FFCE4D5B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8E6-56AE-4542-8CEF-4BA1E86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5C8-FC9A-4495-8188-C5FBFC10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0AE-6C72-44D4-8272-D13AABDA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CFE8-E75C-4062-A4B5-60823F5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E8A0-EFB7-4643-925C-FC8DDFFD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F68E-1E82-4286-9C5B-C1759F0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5077-6C8F-4671-9F36-1BD42AA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AE20-A392-48E1-BE4C-FC28A95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9696-9F51-48BE-88E3-A8E9FF5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13E-90AB-427E-A497-241298D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1F76-A366-460E-8126-000FB67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0FD-041D-4147-9186-9B909E2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85D2-4918-4949-872E-36466F74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10A-8B9E-4AE9-8352-2C6F583C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C46E-E368-4064-AA48-8EE81B15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9E8-2623-46F2-BC83-698D3F2A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354-2879-44FC-B4C0-D3EA9C0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AC7-679D-4A06-982F-946DAB7F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066-7DD6-4A6F-B365-16DCF6A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463-2FAE-4BCB-A59C-F31434A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7FF-3A32-4EC4-AFAC-B738CB3F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71F-BA4D-4509-AF74-2E3227B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CBD4-55C7-4D6F-835A-07AF72597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3D0-F7C4-4B75-8FC9-DF5D120E1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b.ru/" TargetMode="External"/><Relationship Id="rId2" Type="http://schemas.openxmlformats.org/officeDocument/2006/relationships/hyperlink" Target="http://www.big-library.info/" TargetMode="External"/><Relationship Id="rId3" Type="http://schemas.openxmlformats.org/officeDocument/2006/relationships/hyperlink" Target="http://liter-rm.ru/" TargetMode="External"/><Relationship Id="rId4" Type="http://schemas.openxmlformats.org/officeDocument/2006/relationships/hyperlink" Target="http://www.veche.ru/" TargetMode="Externa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izvestniy-geniy.ru/" TargetMode="External"/><Relationship Id="rId2" Type="http://schemas.openxmlformats.org/officeDocument/2006/relationships/hyperlink" Target="http://www.rcmir.com/" TargetMode="External"/><Relationship Id="rId3" Type="http://schemas.openxmlformats.org/officeDocument/2006/relationships/hyperlink" Target="http://newlit.ru/" TargetMode="External"/><Relationship Id="rId4" Type="http://schemas.openxmlformats.org/officeDocument/2006/relationships/hyperlink" Target="http://www.erfolg.ru/" TargetMode="Externa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chitalnya.ru/" TargetMode="External"/><Relationship Id="rId2" Type="http://schemas.openxmlformats.org/officeDocument/2006/relationships/hyperlink" Target="http://www.stihi.ru/" TargetMode="External"/><Relationship Id="rId3" Type="http://schemas.openxmlformats.org/officeDocument/2006/relationships/hyperlink" Target="http://www.proza.ru/" TargetMode="External"/><Relationship Id="rId4" Type="http://schemas.openxmlformats.org/officeDocument/2006/relationships/hyperlink" Target="http://rifma.ru/" TargetMode="External"/><Relationship Id="rId5" Type="http://schemas.openxmlformats.org/officeDocument/2006/relationships/hyperlink" Target="http://grafomanam.net/" TargetMode="External"/><Relationship Id="rId6" Type="http://schemas.openxmlformats.org/officeDocument/2006/relationships/hyperlink" Target="http://www.clubochek.ru/" TargetMode="External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rlit2001.com/" TargetMode="External"/><Relationship Id="rId2" Type="http://schemas.openxmlformats.org/officeDocument/2006/relationships/hyperlink" Target="http://litcult.ru/" TargetMode="External"/><Relationship Id="rId3" Type="http://schemas.openxmlformats.org/officeDocument/2006/relationships/hyperlink" Target="https://www.litprichal.ru/" TargetMode="External"/><Relationship Id="rId4" Type="http://schemas.openxmlformats.org/officeDocument/2006/relationships/hyperlink" Target="http://stihiya.org/" TargetMode="Externa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на тему «Литературный салон»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еница 10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итова Мар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очк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утлуе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s://ds05.infourok.ru/uploads/ex/08b1/000734a0-24d5a02d/hello_html_m3a8c853c.jpg"/>
          <p:cNvPicPr/>
          <p:nvPr/>
        </p:nvPicPr>
        <p:blipFill>
          <a:blip r:embed="rId1"/>
          <a:stretch/>
        </p:blipFill>
        <p:spPr>
          <a:xfrm>
            <a:off x="685800" y="2666880"/>
            <a:ext cx="3733920" cy="3052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салон писателя Елены Руш успешно функционирует уже много лет, каждый желающий может зайти на этот интернет-ресур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он Елены Ру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sun9-77.userapi.com/sun9-85/impf/gI0qSm80FuRkw56CK8KR9_j3akWv1aZfid19QQ/yg4FyLzPpYw.jpg?size=607x1080&amp;quality=96&amp;sign=f7dd6c1195a4981c7711d250d0787388&amp;type=album"/>
          <p:cNvPicPr/>
          <p:nvPr/>
        </p:nvPicPr>
        <p:blipFill>
          <a:blip r:embed="rId1"/>
          <a:stretch/>
        </p:blipFill>
        <p:spPr>
          <a:xfrm>
            <a:off x="762120" y="160020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ные сай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, в первую очередь, книгохранилища, где ради оживления библиотечного покоя и тишины иногда создаются форумы для читателей или блоги любителей литературы как от организаций, так и от частных лиц, но где, ни при каких условиях, невозможно публиковать свои собственные произведения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ib.ru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big-library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йты-издатель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абсолютно коммерческие организации, где всем авторам за определенную плату предлагаются услуги в публикации книг как в полиграфическом, так и в электронн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    http://liter-rm.ru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vech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из виртуального пространства можно с уверенностью выделить по характерным признакам четыре группы литературных сайтов (своеобразных литературных салонов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йты со свободной и бесплатной публикац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итературных произведений для любителей поэзии и прозы, пишущих стихи и рассказы и желающих показать своё творчество широкой публике в виртуальном пространстве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neizvestniy-geniy.ru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rcmir.com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интересует именно и только четвертая группа литературных сай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йты-альманахи, сайты-журналы, сайты самопровозглашенных авторитетов литерату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чисто литературные салоны или салоны по искусству, где собирается узкий круг «избранных» людей, которые сами себя причислили к таковым, и где возможна свободная и бесплатная публикация только для тех, кто входит в круг этих «избранных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newlit.ru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erfolg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ные литературные сайты со свободной публикаци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а-Читальня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chitalnya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и.ру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ihi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за.ру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roza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фма.ру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ifma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оманамНЕТ!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grafomanam.net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очек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clubochek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у людей есть возможность пользоваться интернетом, поэтому многие кружки существуют в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25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лит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terlit2001.com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культ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tcult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причал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litprichal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иЯ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tihiya.or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 музыкально- поэтического слона «Душевный с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ежда Денисова (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ГДБ им.А.С.Пушкина г.Санкт-Петербург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формат салона стал новой культурной традицией, формирующей интерес к чтению и знаниям, любовь к классической и современной русской лит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Админ\Desktop\sUYpUaMJvkY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91320" cy="4038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здничная встреча «Радость встречи в Новый год» в салоне «Душевный с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C:\Users\Админ\Desktop\0tegyhrYPSg.jpg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ический вечер к 100-летию  ЦГДБ им. А.С.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Админ\Desktop\Wu7SIrAp0V4.jpg"/>
          <p:cNvPicPr/>
          <p:nvPr/>
        </p:nvPicPr>
        <p:blipFill>
          <a:blip r:embed="rId1"/>
          <a:stretch/>
        </p:blipFill>
        <p:spPr>
          <a:xfrm>
            <a:off x="685800" y="990720"/>
            <a:ext cx="4114800" cy="30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Админ\Desktop\ztHpimfPAJA.jpg"/>
          <p:cNvPicPr/>
          <p:nvPr/>
        </p:nvPicPr>
        <p:blipFill>
          <a:blip r:embed="rId2"/>
          <a:stretch/>
        </p:blipFill>
        <p:spPr>
          <a:xfrm>
            <a:off x="5181480" y="45720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Users\Админ\Desktop\gHmkG9564Ak.jpg"/>
          <p:cNvPicPr/>
          <p:nvPr/>
        </p:nvPicPr>
        <p:blipFill>
          <a:blip r:embed="rId1"/>
          <a:stretch/>
        </p:blipFill>
        <p:spPr>
          <a:xfrm>
            <a:off x="609480" y="152280"/>
            <a:ext cx="8001000" cy="6324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личные литературные салоны и кружки в девятнадцатом веке имели существенную ценность для развития культурной и общественной жизни России на протяжении немалого количества времени. Еще в середине восемнадцатого века стали появляться первые литературные круж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ной работы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исследовать черты русской салонной культуры в России; побудить интерес  к культуре свое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знакомление с салонной культурой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нимание важности чтения в личностном культурн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38080" y="4114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блю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ение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ль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219320"/>
          <a:ext cx="5757840" cy="2347920"/>
        </p:xfrm>
        <a:graphic>
          <a:graphicData uri="http://schemas.openxmlformats.org/drawingml/2006/table">
            <a:tbl>
              <a:tblPr/>
              <a:tblGrid>
                <a:gridCol w="513000"/>
                <a:gridCol w="5244840"/>
              </a:tblGrid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салонная культура начала девятнадцатого 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литературных салонов и Пушкина в развитии русской литера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литературные сало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581280" y="685440"/>
            <a:ext cx="236232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пробл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на фоне стремительного технического прогресса современные школьники мало читают, мало знают о культуре своей страны, происходит переоценка  ценностей, слабое владение творческими умениями и навыками, поэтому основная идея проекта - это приобщение обучающихся к вершинам рус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развивать творческие способности детей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приведет к повышению познавательной активности, повышению качества знаний по предм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ю любви и уважения к культурному наследию  сво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ный салон – это круг или группа избранных лиц, собирающихся в частном дом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алонах встречались люди, принадлежащие к разным слоям общества: здесь вельможи, дипломаты встречались с писателями и художник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лавным было не положение в иерархии двора, а интеллект, образование и, наконец, бойкий ум. Каждый салон отличался своим подбором посетителей, своим характ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Админ\Desktop\nBkSUhL2hFEukcu-Jr6BosSyyJ2gp8TrlnTclb7P73OHezeOWXiSxTZt4slI-BHBsdWR_G-JLsV0=XjTzZIgQb769ybxwtX958Q.jpg"/>
          <p:cNvPicPr/>
          <p:nvPr/>
        </p:nvPicPr>
        <p:blipFill>
          <a:blip r:embed="rId1"/>
          <a:stretch/>
        </p:blipFill>
        <p:spPr>
          <a:xfrm>
            <a:off x="2590920" y="358128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36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йкой первого в России подлинного салона была княгиня Евдокия (Авдотья) Ивановна Голицына, урожденная Измайл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816 году, вернувшись в Петербург из Парижа, княгиня становится естественным обра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хозяйкой салон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е дом на Миллионной превращается в некий храм искусств, расписанный лучшими художниками эпох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чего от быстротекущей моды, - все просто, величаво и оригинально до невозможност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йка принимает гостей в одеяниях, которые заставляют вспоминать не журналы парижских мод, а картины из жизни Древнего Рим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еды длятся всю ночь, ибо княгиня как раз и бои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очи. Цыганка нагадала ей смерть ночью во с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эти бдения Голицыну прозва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чной княгин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озяйка первого в России салона -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вдокия Ивановна Голицы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Users\User\Desktop\Колногорова А.Д\Голицина\i (1).jpg"/>
          <p:cNvPicPr/>
          <p:nvPr/>
        </p:nvPicPr>
        <p:blipFill>
          <a:blip r:embed="rId1"/>
          <a:stretch/>
        </p:blipFill>
        <p:spPr>
          <a:xfrm>
            <a:off x="914400" y="175248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8080" y="3733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ковский салон Волконской просуществовал немногим более четырех лет и занял одно из центральных мест в литературной и культурной жизни русской дворянской элиты второй половины 1820-х гг. Имена многих посетителей его известны и знач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ее салоне упоминали и упоминают все, кто в той или иной мере занят изучением литературы и культуры пушкинской эпохи или просто испытывает потребность почувствовать ее атмосферу, "тот воздух, которым эта эпоха дышал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Зинаида Александровна Волконская Хозяйка самого известного в Москве литерат..."/>
          <p:cNvPicPr/>
          <p:nvPr/>
        </p:nvPicPr>
        <p:blipFill>
          <a:blip r:embed="rId1"/>
          <a:stretch/>
        </p:blipFill>
        <p:spPr>
          <a:xfrm>
            <a:off x="990720" y="762120"/>
            <a:ext cx="5029200" cy="259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салоны 19 века играли важную роль в литературном процессе времен. В них происходили публичные чтения, обмен информацией, новостями. Салоны были тем местом, где можно было свободно высказывать свое мнение, где жила и процветала свободная общественная мысль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5-05-04T17:22:52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